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4AD0-0F74-4729-9896-04032D3C1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EF91-00FB-48D0-88F9-9962E8082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1881-EABE-4F08-9AEC-2D23A959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653-90E9-4D79-A6B9-4EEA05BC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F302-4A7B-4C45-AEAE-A531D41A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0C5-FBB0-4B27-9E02-48B2B6BE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A2B-74A4-4C99-907A-1EB284D7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1D65-3EAB-4FDE-B4FA-DB1A0EB9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FC0-00AA-4CE2-A085-963DF2FF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D48-CF72-44FC-9CB9-39B39700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A47-5682-4E03-B222-4A53AE57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F07F-54F2-4E11-B4FD-B491417C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0F4-35DA-4DAD-AAD6-45BEEB2B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DD2B-F88A-46F2-AAC8-EEF9D37F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36F2-AE02-4AA2-AD85-F01CBF752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752480" y="2590920"/>
            <a:ext cx="5562720" cy="900000"/>
            <a:chOff x="1752480" y="2590920"/>
            <a:chExt cx="5562720" cy="90000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51055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581280" y="2666880"/>
              <a:ext cx="762120" cy="8240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752480" y="2590920"/>
              <a:ext cx="83844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</a:rPr>
              <a:t>מלאית סיכום החלט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581280" y="304920"/>
              <a:ext cx="221004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ליאה ראשוני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ינוי ועדו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68360" y="1600200"/>
            <a:ext cx="8064360" cy="971640"/>
            <a:chOff x="468360" y="1600200"/>
            <a:chExt cx="80643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18000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952880" y="1600200"/>
              <a:ext cx="17067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ועדת 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971800" y="1600200"/>
              <a:ext cx="1905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468360" y="1600200"/>
              <a:ext cx="2427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68360" y="3213000"/>
            <a:ext cx="4589280" cy="1072080"/>
            <a:chOff x="2268360" y="3213000"/>
            <a:chExt cx="4589280" cy="1072080"/>
          </a:xfrm>
        </p:grpSpPr>
        <p:sp>
          <p:nvSpPr>
            <p:cNvPr id="70" name="Text Box 24"/>
            <p:cNvSpPr/>
            <p:nvPr/>
          </p:nvSpPr>
          <p:spPr>
            <a:xfrm>
              <a:off x="3962520" y="3581280"/>
              <a:ext cx="129528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Arial"/>
                </a:rPr>
                <a:t>הועדה המתמד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68360" y="3213000"/>
              <a:ext cx="1633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140360" y="3284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036760" y="3276720"/>
              <a:ext cx="22068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57440" y="3276720"/>
              <a:ext cx="1600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4038480" y="4869000"/>
            <a:ext cx="1219320" cy="1305360"/>
            <a:chOff x="4038480" y="4869000"/>
            <a:chExt cx="1219320" cy="1305360"/>
          </a:xfrm>
        </p:grpSpPr>
        <p:sp>
          <p:nvSpPr>
            <p:cNvPr id="76" name="Text Box 30"/>
            <p:cNvSpPr/>
            <p:nvPr/>
          </p:nvSpPr>
          <p:spPr>
            <a:xfrm>
              <a:off x="4038480" y="5181480"/>
              <a:ext cx="121932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מחיי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2073960"/>
            <a:chOff x="5786280" y="4724280"/>
            <a:chExt cx="3129120" cy="207396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83844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11595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הווה כהמלצה לועידה המחוזית\הארצית והעולמ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5202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חייב את הסני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4320" y="4523760"/>
            <a:ext cx="2974320" cy="1848240"/>
            <a:chOff x="454320" y="4523760"/>
            <a:chExt cx="2974320" cy="184824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 חלק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18144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ניסוח מחדש ע"י נציגים מהועדה ומהועדה המתמד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3400"/>
              <a:ext cx="2667240" cy="1481760"/>
            </a:xfrm>
            <a:prstGeom prst="bentConnector3">
              <a:avLst>
                <a:gd name="adj1" fmla="val -86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8:56:17Z</dcterms:created>
  <dc:creator>Ilan Frydman</dc:creator>
  <dc:description/>
  <dc:language>en-US</dc:language>
  <cp:lastModifiedBy>Ilan</cp:lastModifiedBy>
  <dcterms:modified xsi:type="dcterms:W3CDTF">2010-10-24T05:23:27Z</dcterms:modified>
  <cp:revision>4</cp:revision>
  <dc:subject/>
  <dc:title>Slide 1</dc:title>
</cp:coreProperties>
</file>